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834-0894-4322-84D9-CEE68348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556-BD5F-42EF-8E8B-5CC38263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91B-6003-4D34-A4FF-1CB8CE25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3C6-2092-4A87-A810-FFA1D674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34F-06FE-4729-8E3E-C74C0A56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A97-C160-42FE-A6F8-D767C963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801-22C7-40B5-A1F8-AE1F7216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790-AF41-4745-8B10-6E739A98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946-7F5D-4F1A-98F6-98804205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50A-648E-4195-BFAA-54EF6023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F2C-1405-47B4-8034-3F21B067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B42-8468-48A8-8684-0DEC89FC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1FF5-DD4B-40A6-8058-E13355CBA1C7}" type="slidenum"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557360"/>
            <a:ext cx="7704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CL" sz="3200" spc="-1" strike="noStrike">
                <a:solidFill>
                  <a:srgbClr val="000099"/>
                </a:solidFill>
                <a:latin typeface="Verdana"/>
              </a:rPr>
              <a:t>Sistemas de Telecomunicaciones</a:t>
            </a:r>
            <a:br>
              <a:rPr sz="3200"/>
            </a:br>
            <a:r>
              <a:rPr b="0" lang="es-CL" sz="3200" spc="-1" strike="noStrike">
                <a:solidFill>
                  <a:srgbClr val="000099"/>
                </a:solidFill>
                <a:latin typeface="Verdana"/>
              </a:rPr>
              <a:t>EL55a. </a:t>
            </a:r>
            <a:br>
              <a:rPr sz="3200"/>
            </a:br>
            <a:br>
              <a:rPr sz="2000"/>
            </a:br>
            <a:r>
              <a:rPr b="0" lang="es-C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Capítulo 10.</a:t>
            </a:r>
            <a:br>
              <a:rPr sz="4800"/>
            </a:b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i="1" lang="es-CL" sz="3500" spc="-1" strike="noStrike">
                <a:solidFill>
                  <a:srgbClr val="333333"/>
                </a:solidFill>
                <a:latin typeface="Verdana"/>
              </a:rPr>
              <a:t>“ Telefonía Celular” 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476280"/>
            <a:ext cx="5545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Facultad de Ciencias Físicas y Matemáticas 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Departamento de Ingeniería Eléctrica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Sistemas de Comunicación Celular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s estaciones base se encuentran conectadas al MSC. Centro de Conmutación Móvil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MSC cumple la función  d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roveer conexión hacia la red de telefonía pública conmutada (PSTN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 la actividad de todas las estaciones base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subscriptor utiliza un equipo móvil (teléfono celular) para efectuar llamadas, el cual consta d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Un transmisor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Una antena. (Actualmente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ircuitería de control de funcionalidades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estación base esta definid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Varias antenas transmisoras y receptora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Manejar las comunicaciones full duplex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quipo de control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Primer Sistemas de Comunicación Celular Masivos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l sistema AMPS (Advance Mobile Phone System)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ividir la zona de cobertura en pequeñas celda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ada una de las cuales reuso una porción del espectro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tilización más eficiente del espectro a expensas de una gran infraestructura (antenas y estaciones base para cada celda)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sistema es analógico y utiliza modulación FM y multiplexación en frecuencia (FDMA).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Reuso de frecuencia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Estrategias de asignación  de canal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Handoff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Interferencia de co-canal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Interferencia de canal adyacente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Grado de servicio y entroncamiento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835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1. Reuso de frecuenci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Definición: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El proceso de diseño de selección y localización de grupos de canales para todas las estaciones base dentro de un sistema es llamado </a:t>
            </a:r>
            <a:r>
              <a:rPr b="0" i="1" lang="es-CL" sz="1800" spc="-1" strike="noStrike">
                <a:solidFill>
                  <a:srgbClr val="000000"/>
                </a:solidFill>
                <a:latin typeface="Verdana"/>
              </a:rPr>
              <a:t>reuso de frecuencia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 cada una de estas celdas se le es asignada un grupo de canales que difiere totalmente de sus vecinos inmediato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mantiene el nivel de interferencia lo suficientemente bajo, dentro de los límites aceptado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 posible volver a asignar el mismo grupo de frecuencia a otra célula que se encuentre separada por una distancia mínima de las demás celdas utilizando las mismas portadora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31687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jemplo de Reuso de Frecuenci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a un sistema celular con S canales duplex (es decir, si un canal simplex utiliza 25 kHz, entonces uno duplex utilizará 25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 kHz) disponibl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ada una de las celdas se le asigna un grupo k de canales (k&lt;S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 es dividido en N celdas con grupos  únicos y disjuntos, cada una con el mismo número de canales, el número total de canales disponibles e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03640" y="5445000"/>
                <a:ext cx="1224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156360" y="5661000"/>
                <a:ext cx="768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Verdana"/>
              </a:rPr>
              <a:t>Ejemplo de Reuso de Frecuenci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s N celdas que utilizan colectivamente el conjunto completo de frecuencias disponible es llamado 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cluster.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un cluster es replicado M veces dentro del sistema, el número total de canales duplex está dado por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El valor de N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un indicador de que tanta interferencia un teléfono o una estación base es capaz de tolerar mientras mantiene una suficiente calidad  de comunicación”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factor N es llamado el tamaño del cluster  y sus valores típicos son 4, 7 o 12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factor de reuso de un sistema celular esta dado por 1/N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916360" y="3645000"/>
                <a:ext cx="2520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k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948360" y="3645000"/>
                <a:ext cx="731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strategias de asignación  de canal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Básicamente se dividen en: fijas o dinámica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Una estrategia fija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predetermina un conjunto de frecuencias para cada celda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ualquier intento de llamada sólo puede ser atendida si existe un canal disponible, y en caso contrario será bloqueada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Una variación de esta es la estrategia de pedir prestado, es decir, la celda puede pedir canales a sus vecinos, si esta posee todos sus canales ocupado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MSC es el encargado de supervisar este préstamo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En una asignación dinámica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ada vez que una estación base requiera un canal, esta consulta al MSC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MSCl localiza un canal  por medio de un algoritmo que toma en cuenta la probabilidad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e bloqueo futuro dentro de la célula, la probabilidad de uso del canal candidato, la distancia de reuso y otras funciones de costo. Esta estrategia reduce la probabilidad de bloqueo, incrementando la capacidad de tráfico del sistema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3. Handoff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define como el proceso de transferir un móvil desde un canal o estación base a otra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Este proceso debe ser imperceptible para el usuario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Para ejecutar este proceso es necesario definir un nivel de señal óptimo de inicio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Para ello se define un nivel mínimo tal que la estación base recibe con una aceptable  calidad  de  voz  (normalmente tomado entre -90 dBm  y –100dBm), así un nivel levemente más fuerte es usado como umbral para el </a:t>
            </a:r>
            <a:r>
              <a:rPr b="0" i="1" lang="es-CL" sz="1600" spc="-1" strike="noStrike">
                <a:solidFill>
                  <a:srgbClr val="000000"/>
                </a:solidFill>
                <a:latin typeface="Verdana"/>
              </a:rPr>
              <a:t>handoff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Así se define el margen como D=Pr </a:t>
            </a:r>
            <a:r>
              <a:rPr b="0" i="1" lang="es-CL" sz="1600" spc="-1" strike="noStrike">
                <a:solidFill>
                  <a:srgbClr val="000000"/>
                </a:solidFill>
                <a:latin typeface="Verdana"/>
              </a:rPr>
              <a:t>handoff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– Pr </a:t>
            </a:r>
            <a:r>
              <a:rPr b="0" i="1" lang="es-CL" sz="1600" spc="-1" strike="noStrike">
                <a:solidFill>
                  <a:srgbClr val="000000"/>
                </a:solidFill>
                <a:latin typeface="Verdana"/>
              </a:rPr>
              <a:t>mínimo usable.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Existe el 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handoff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 duro 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(hard handoff)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 y el 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handoff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 suave 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(soft handoff)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primero al tener un nivel de señal lo suficientemente bajo intenta ubicar frecuencias disponibles en la estación base vecina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segundo, utilizado en sistemas CDMA, no intenta cambiar el canal, ya que este es compartido por todas las celdas, y más bien se entiende  como el cambio en el manejo de la señal hacia otra estación base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4 . Interferencia de co-can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interferencia entre señales provenientes de celdas que usan la misma frecuencia 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eparar las celdas a una distancia mínim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se tiene un sistema con tamaño de celdas aproximadamente homogéneo, la interferencia es independiente de la potencia de la portadora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penderá del radio  de la celda (R), y la distancia al centro más cercano de una celda co-canal (D)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parámetro Q, conocido como radio de reuso de co-canal, se encuentra relacionado con el tamaño del cluster de la siguiente manera:     (Para una geometría de celda hexagonal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492360" y="5573880"/>
                <a:ext cx="1871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300720" y="5803920"/>
                <a:ext cx="7225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5. Interferencia de canal adyacent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rge debido 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ñales que son adyacentes en frecuenci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imperfección en los filtro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ser minimizad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través de elección de filtro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signación inteligente de canale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Verdana"/>
              </a:rPr>
              <a:t>Asignación inteligente de canale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refiere a que no necesariamente en una celda se tienen que establecer frecuencias consecutivas, y puede hacerse de tal modo que la separación entre canales sea máxim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Verdana"/>
              </a:rPr>
              <a:t>Temario del Capítulo.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ntroducción y Inicios de la Tecnologí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Motivació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Primeros sistemas de Comunicación Móvil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Sistemas de Comunicación Celula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Primeros Sistemas de Comunicación Celular Masiv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sideraciones de Diseño de un Sistema de Telefonía Móvil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Técnicas de Acceso Múltipl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6. Grado de servicio y entroncamiento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ntroncamiento 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(trunking) :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se refiere al hecho de acomodar un gran número de usuarios en un espectro de radio limitado, es decir permitir a un gran número de usuarios compartir un pequeño número de canales en una celda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l grado de servicio (GOS) :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una medida de la capacidad de un usuario para acceder a un sistema de trunking durante las horas más ocupadas, y se utiliza para definir el rendimiento deseado de un sistema en particular, especificando la probabilidad de que un usuario obtenga un canal, dado un número de canales disponibles (Erlang B)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Las técnicas de acceso son las que permiten  a múltiples usuarios compartir, de forma simultanea, una cantidad limitada de espectr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establecer una comunicación telefónica es necesario que esta se produzca en dos direcciones a la vez, es decir que la estación base sea capaz de recibir y enviar información en el mismo instante. Este  fenómeno  se conoce como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uplexación,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Duplexación en frecuencia (FDD) 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Duplexación en división de tiempo (TDD)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s técnicas de acceso múltiples más utilizadas y conocidas son: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acceso múltiple por división en frecuencia (FDMA), acceso múltiple por división de tiempo (TDMA) y acceso múltiple por división de código (CDMA)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tas técnicas pueden ser agrupadas en sistemas de banda estrecha y sistemas de banda ancha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16000" y="2492280"/>
          <a:ext cx="6923160" cy="3229200"/>
        </p:xfrm>
        <a:graphic>
          <a:graphicData uri="http://schemas.openxmlformats.org/drawingml/2006/table">
            <a:tbl>
              <a:tblPr/>
              <a:tblGrid>
                <a:gridCol w="4919760"/>
                <a:gridCol w="2003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stema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écnica de acc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vance Mobile Phone System (AM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DMA/F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lobal System for Mobile (GS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DMA/F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. S. Digital Cellular (USD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DMA/F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apanese Digital Cellular (JD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DMA/F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T2  (Teléfonos inalámbric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DMA/T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gital European Cordless Telephone (DEC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DMA/T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. S. Narrowband Spread Spectrum (IS-9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DMA/F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1892160" y="1557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écnicas de acceso múltiple en utilización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DMA (Frecuency Division Multiplex Acces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sta técnica de acceso asigna canales individuales para cada usuario. Algunas de las características más importantes de esta técnica son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os canales FDMA llevan sólo un circuito telefónico a la vez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spués que un canal de voz es asignado, el teléfono y la estación base transmiten y reciben continua y simultáneamente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ancho de banda de los canales es relativamente estrecho (30 kHz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a complejidad de un sistema móvil FDMA es más baja cuando comparada con un sistema TDMA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e necesitan pocos bits para encabezado, debido al esquema de transmisión continua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as celdas FDMA son más costosas que para un sistema TDMA, debido a los canales únicos por portadora y la necesidad de usar costosos filtros pasabanda en las estaciones base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DMA requiere ajustados filtros de RF para minimizar interferencia de canales adyacente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DMA (Time Division Multiplex Access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sistema TDMA divide el espectro de radio en ranuras (slots) de tiempo, cada una de las ranuras soporta solo un usuario que envía o recibe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Algunas de las características de TDMA se describen a continuación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Varios usuarios comparten una misma portadora, en diferentes ranuras de tiempo, siendo el tamaño de esta dependiente de la técnica de modulación utilizada, el ancho de banda disponible, etc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a transmisión no es continua, pero ocurre en ráfaga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bido a lo anterior el handofff es mucho más simple, ya que le permite escuchar otras estaciones bases en los intervalos desocupado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s necesaria ecualización adaptiva, debido a que las tasas de transmisión son muy altas comparadas con FDMA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e necesita encabezado de sincronización debido a la transmisión en ráfagas. También se requieren bits de protección entre ranuras para separar a los usuarios, lo que lleva a un mayor encabezado comparado con FDMA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DMA (Time Division Multiplex Access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6429600" cy="295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79640" y="53737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Figura 10.2: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tructura de frame TDM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capacidad de sistemas CDMA esta limitada por interferenci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ferencia de TDMA y FDMA que se encuentran delimitadas por ancho de banda o número de portadora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DMA forma parte del estándar IS-95 el cual  describe el sistema celular basado en esta técnica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Verdana"/>
              </a:rPr>
              <a:t>Introducción y Inicios de la Tecnología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efinición: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l término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móvil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usado para describir, cualquier terminal de radio que pueda ser movido durante su operación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e relaciona con equipos que pueden funcionar sobre plataformas en  movimiento  como un vehículo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primer sistema de telefonía full duplex inalámbrico fue implementado en Estados Unidos bajo el nombre de IMTS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(Improved Mobile Telephone Service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sistema AMPS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(Advance Mobile Phone System)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fue desarrollado por los Laboratorios Bell junto a otras compañías de comunicaciones, los cuales desarrollaron la teoría y técnicas de radiotelefonía celular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Verdana"/>
              </a:rPr>
              <a:t>Motivación.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número de celulares en Chile en el 2004 respecto a 2000 aumentó en un 196,8%, al pasar de 2.853.000 a 8.468.000 el número de aparato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,9 personas de cada diez habitantes, tenían celular el año 2000. En 2004, la proporción se eleva a 5,3. (*) 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tanto, la cantidad de llamadas nacionales a través de celulares dentro  creció en un 143,3%, incrementándose desde cerca de tres mil millones de llamadas (2.970.320.000) en el año 2000 a más de siete mil millones (7.225.607.000) en el 2004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llamadas internacionales vía celular durante el mismo período experimentaron un aumento de 237,0% al pasar de 5.800.000 en 2000 a 19.545.000 en 2004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(*) De acuerdo a Estimaciones de Población 1990 -2005 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Fuente: INE Instituto Nacional de Esatdisticas www.ine.c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Motivación</a:t>
            </a:r>
            <a:br>
              <a:rPr sz="4000"/>
            </a:br>
            <a:r>
              <a:rPr b="1" lang="es-CL" sz="2400" spc="-1" strike="noStrike">
                <a:solidFill>
                  <a:srgbClr val="333399"/>
                </a:solidFill>
                <a:latin typeface="Verdana"/>
              </a:rPr>
              <a:t>Número de celulare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INE Instituto Nacional de Estadísticas www.ine.cl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2157480"/>
            <a:ext cx="648036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Primeros Sistemas de Comunicación Móviles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Sistema “Paging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nvío de pequeños mensajes, pueden ser mensajes numéricos, alfanuméricos o de voz.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 mensaje es enviado a través del sistema por medio de un modem o teclado de teléfono, y a este se le conoce como “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página”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 sistema </a:t>
            </a:r>
            <a:r>
              <a:rPr b="0" i="1" lang="es-CL" sz="1800" spc="-1" strike="noStrike">
                <a:solidFill>
                  <a:srgbClr val="000000"/>
                </a:solidFill>
                <a:latin typeface="Verdana"/>
              </a:rPr>
              <a:t>paging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, entonces transmite la página a través del área de servicio por medio de una estación base la cual la difunde la página en la portadora de radio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Un sistema de paging de área amplia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consiste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Una red de líneas telefónica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Muchas estaciones base transmisora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Torres de radio que simultáneament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te sistema fue diseñado para proveer comunicación confiable hacia el subscriptor donde quiera que este se encuentre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Implica la utilización de grandes potencias para los  transmisores y una baja tasa de datos (un par de miles de bits por segundo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Primeros Sistemas de Comunicación Móviles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Verdana"/>
              </a:rPr>
              <a:t>Teléfono inalámbrico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s un sistema de comunicación full duplex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Uso equipo portátil que mediante ondas de radio se conecta a una estación base fij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La estación base  está conectada a la red pública de telefoní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stos teléfonos inalámbricos proveen un rango limitado  de movilidad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Sistemas de Comunicación Celular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sistema de comunicación celular pose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Un gran número de usuarios sobre una extensa  área geográfica de cobertura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ntro de un limitado espectro de frecuencia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área geográfica se encuentra dividida 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células (o celdas)”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las cuales constan de una estación base que tiene asignada una cantidad de frecuenci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tas frecuencias (canales) pueden ser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reusadas”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por otra estación base, si esta se ubica lo suficientemente espaciad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uando un cliente se mueve desde una celda con una frecuencia hacia otra con otra asignación de frecuencia, se utiliza una técnica de conmutación denominada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handoff”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que permite que el subscriptor mantenga su comunicación reasignando la frecuencia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Sistemas de Comunicación Celular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048720" cy="4105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59500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Figura 1: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istema celular, donde las torres representan las estaciones base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36:45Z</dcterms:created>
  <dc:creator>Mikko</dc:creator>
  <dc:description/>
  <dc:language>en-US</dc:language>
  <cp:lastModifiedBy> Nestor</cp:lastModifiedBy>
  <dcterms:modified xsi:type="dcterms:W3CDTF">2005-06-22T13:10:31Z</dcterms:modified>
  <cp:revision>13</cp:revision>
  <dc:subject/>
  <dc:title>Diapositiva 1</dc:title>
</cp:coreProperties>
</file>